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824-2BCD-4ACB-8A85-A09920FF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2B9-4342-40AF-86D0-117FDD93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252-AC82-4A00-8D2A-EC37D75D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62C-FEE2-4235-892A-D4A2A5A7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4E66-8D42-4E3E-86D2-E55F251E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151F-7BCF-4780-9815-1BD9F4BA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6881-65E8-46CE-BBF4-EAE23185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0AA7-B7C0-47C1-92DC-518FCA75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5F21-FB44-49DE-95E9-A43E0FCA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DF21-869E-47DC-BD97-F1B40357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E8C2-0183-4403-A8B2-423C428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FDE-84AF-492C-B1AE-EED6037E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F02A-DA5B-4B78-84E8-5DBFED13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1E91-FCE4-4CBB-976B-6C1AB695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F349-BC1D-4D0A-8C5C-D39C5F3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3C17-64FC-416C-B872-49DDC198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2C5A-B8F0-4654-B552-817D7167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4DF-7E15-40F1-8186-85247056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20E-291C-4198-A040-6D104322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4BE-00BA-4420-AF24-6333E320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047-BC9A-4596-A311-F3D3EA6C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1CF-6DFC-43AF-BC4C-9674282C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8EE-AD5B-4A3E-88C4-18B1730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C7C-A180-4BBC-8C2E-C06912F4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JCI_パワポ-02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58B0-A8D0-4A76-84DC-8CB0B6F1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JCI_パワポ-03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3752-37DF-47F9-99C1-F53868531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9159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85720" y="34290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2:21:32Z</dcterms:created>
  <dc:creator>Hirose Printing Company</dc:creator>
  <dc:description/>
  <dc:language>en-US</dc:language>
  <cp:lastModifiedBy>Etsushi ARATANI</cp:lastModifiedBy>
  <dcterms:modified xsi:type="dcterms:W3CDTF">2014-01-18T04:24:29Z</dcterms:modified>
  <cp:revision>5</cp:revision>
  <dc:subject/>
  <dc:title>スライド 1</dc:title>
</cp:coreProperties>
</file>